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4F931E-0F2A-4993-A634-ECB23D828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ECDC51-C1DE-4FB3-BAEE-92B462C92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9832DC-F28D-4F6A-9006-176E79374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BDA1C4-A4AB-4B68-8FA3-E33AE4A7B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7802-0DCC-4561-A738-0FADA2E3C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BFF3-6E10-4352-8D89-DBAD180BE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483A-D451-4911-82B1-B470B8DDB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0342D-B2E0-487B-A432-E43898034F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98E4-A4FE-48E0-832F-873F7BE55E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3E12-EB61-4C49-B675-0F29380C37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F8A4-17E5-41AF-9600-5328EA8C7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C6B7A-77A7-412C-953A-CFC517FEB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FAC7B-C3A6-4693-9EA6-287EF463A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C1C63-DC68-41B0-881C-B1F1ABE24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23BF-62F4-40D8-9E6A-E9A8C399C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B38F-5C32-4982-BB20-52053105F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B3E168-B720-426C-8189-28F5DF92C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igmund Freu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urns out the cancer is bad :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Sigmund Freud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Sigmund Freud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2895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33526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6, 18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Prefer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he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5181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4952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57150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572760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r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57276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52280" y="6627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s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rn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igmund Freu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oving to London with the famil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7, 19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6629400"/>
            <a:ext cx="91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ilhel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lbert Eins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ice talking with you toda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nuary 16, 19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Lucida Sans Unicode"/>
              </a:rPr>
              <a:t>Sigmund Freud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Lucida Sans Unicode"/>
              </a:rPr>
              <a:t>published The Ego and the I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ugust 11, 19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  <a:ea typeface="Lucida Sans Unicode"/>
              </a:rPr>
              <a:t>Sigmund Freu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Lucida Sans Unicode"/>
              </a:rPr>
              <a:t> Totem and Taboo was publish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ember 28, 19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arl Jung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nice to meet yo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4, 19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594360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Sigmund Freu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finally received my doctorate degree in medicine. awesom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88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87" name="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28600" y="4572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sigmund-freud-med" descr=""/>
          <p:cNvPicPr/>
          <p:nvPr/>
        </p:nvPicPr>
        <p:blipFill>
          <a:blip r:embed=""/>
          <a:stretch/>
        </p:blipFill>
        <p:spPr>
          <a:xfrm>
            <a:off x="2057400" y="2514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sigmund-freud-med" descr=""/>
          <p:cNvPicPr/>
          <p:nvPr/>
        </p:nvPicPr>
        <p:blipFill>
          <a:blip r:embed=""/>
          <a:stretch/>
        </p:blipFill>
        <p:spPr>
          <a:xfrm>
            <a:off x="2057400" y="59436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3" name="albert-einstein-1" descr=""/>
          <p:cNvPicPr/>
          <p:nvPr/>
        </p:nvPicPr>
        <p:blipFill>
          <a:blip r:embed=""/>
          <a:stretch/>
        </p:blipFill>
        <p:spPr>
          <a:xfrm>
            <a:off x="2057400" y="3112920"/>
            <a:ext cx="457200" cy="544680"/>
          </a:xfrm>
          <a:prstGeom prst="rect">
            <a:avLst/>
          </a:prstGeom>
          <a:ln w="0">
            <a:noFill/>
          </a:ln>
        </p:spPr>
      </p:pic>
      <p:pic>
        <p:nvPicPr>
          <p:cNvPr id="94" name="sigmund-freud-med" descr=""/>
          <p:cNvPicPr/>
          <p:nvPr/>
        </p:nvPicPr>
        <p:blipFill>
          <a:blip r:embed=""/>
          <a:stretch/>
        </p:blipFill>
        <p:spPr>
          <a:xfrm>
            <a:off x="2057400" y="4572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24965-004-63849e2c" descr=""/>
          <p:cNvPicPr/>
          <p:nvPr/>
        </p:nvPicPr>
        <p:blipFill>
          <a:blip r:embed=""/>
          <a:stretch/>
        </p:blipFill>
        <p:spPr>
          <a:xfrm>
            <a:off x="2057400" y="5176800"/>
            <a:ext cx="473040" cy="538200"/>
          </a:xfrm>
          <a:prstGeom prst="rect">
            <a:avLst/>
          </a:prstGeom>
          <a:ln w="0">
            <a:noFill/>
          </a:ln>
        </p:spPr>
      </p:pic>
      <p:pic>
        <p:nvPicPr>
          <p:cNvPr id="96" name="sigmund-freud-med" descr=""/>
          <p:cNvPicPr/>
          <p:nvPr/>
        </p:nvPicPr>
        <p:blipFill>
          <a:blip r:embed=""/>
          <a:stretch/>
        </p:blipFill>
        <p:spPr>
          <a:xfrm>
            <a:off x="2057400" y="3886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albert-einstein-1" descr=""/>
          <p:cNvPicPr/>
          <p:nvPr/>
        </p:nvPicPr>
        <p:blipFill>
          <a:blip r:embed=""/>
          <a:stretch/>
        </p:blipFill>
        <p:spPr>
          <a:xfrm>
            <a:off x="0" y="5170320"/>
            <a:ext cx="457200" cy="544680"/>
          </a:xfrm>
          <a:prstGeom prst="rect">
            <a:avLst/>
          </a:prstGeom>
          <a:ln w="0">
            <a:noFill/>
          </a:ln>
        </p:spPr>
      </p:pic>
      <p:pic>
        <p:nvPicPr>
          <p:cNvPr id="98" name="24965-004-63849e2c" descr=""/>
          <p:cNvPicPr/>
          <p:nvPr/>
        </p:nvPicPr>
        <p:blipFill>
          <a:blip r:embed=""/>
          <a:stretch/>
        </p:blipFill>
        <p:spPr>
          <a:xfrm>
            <a:off x="669960" y="5176800"/>
            <a:ext cx="473040" cy="538200"/>
          </a:xfrm>
          <a:prstGeom prst="rect">
            <a:avLst/>
          </a:prstGeom>
          <a:ln w="0">
            <a:noFill/>
          </a:ln>
        </p:spPr>
      </p:pic>
      <p:pic>
        <p:nvPicPr>
          <p:cNvPr id="99" name="anna" descr=""/>
          <p:cNvPicPr/>
          <p:nvPr/>
        </p:nvPicPr>
        <p:blipFill>
          <a:blip r:embed=""/>
          <a:stretch/>
        </p:blipFill>
        <p:spPr>
          <a:xfrm>
            <a:off x="1371600" y="5076720"/>
            <a:ext cx="406440" cy="638280"/>
          </a:xfrm>
          <a:prstGeom prst="rect">
            <a:avLst/>
          </a:prstGeom>
          <a:ln w="0">
            <a:noFill/>
          </a:ln>
        </p:spPr>
      </p:pic>
      <p:pic>
        <p:nvPicPr>
          <p:cNvPr id="100" name="josef" descr=""/>
          <p:cNvPicPr/>
          <p:nvPr/>
        </p:nvPicPr>
        <p:blipFill>
          <a:blip r:embed=""/>
          <a:stretch/>
        </p:blipFill>
        <p:spPr>
          <a:xfrm>
            <a:off x="0" y="6091200"/>
            <a:ext cx="473040" cy="538200"/>
          </a:xfrm>
          <a:prstGeom prst="rect">
            <a:avLst/>
          </a:prstGeom>
          <a:ln w="0">
            <a:noFill/>
          </a:ln>
        </p:spPr>
      </p:pic>
      <p:pic>
        <p:nvPicPr>
          <p:cNvPr id="101" name="Ernst" descr=""/>
          <p:cNvPicPr/>
          <p:nvPr/>
        </p:nvPicPr>
        <p:blipFill>
          <a:blip r:embed=""/>
          <a:stretch/>
        </p:blipFill>
        <p:spPr>
          <a:xfrm>
            <a:off x="530280" y="5943600"/>
            <a:ext cx="612720" cy="743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216080" y="5943600"/>
            <a:ext cx="61272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352680" y="3048120"/>
            <a:ext cx="312444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igmund Freu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urns out the cancer is bad :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Sigmund Freud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26668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Sigmund Freud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954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3124080"/>
            <a:ext cx="16002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32767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6, 18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Prefer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he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4876920"/>
            <a:ext cx="1600200" cy="1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7524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United Kingd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y 6, 18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London, Engl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Martha Bern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No Prefer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Athe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3200400"/>
            <a:ext cx="609588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moking cigars, Studying Neurology, Wri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Psychology, Neurology, Philosophy, Psychiatry, Psychotherapy, Psycho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I don't listen to m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The Secret Diary of Sigmund Freu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'm not interested in the televi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The Sexual Enlightenment Of Children, Five Lectures on Psycho-Analysis, Three Case Histories, Beyond the Pleasure Principle, The Future of an Illu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Boo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4952880"/>
            <a:ext cx="3200400" cy="18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ndon,England, U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020) 8675-30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143" name="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228600" y="4572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17360" y="5386320"/>
            <a:ext cx="739800" cy="557280"/>
          </a:xfrm>
          <a:prstGeom prst="rect">
            <a:avLst/>
          </a:prstGeom>
          <a:ln w="0">
            <a:noFill/>
          </a:ln>
        </p:spPr>
      </p:pic>
      <p:pic>
        <p:nvPicPr>
          <p:cNvPr id="148" name="ego" descr=""/>
          <p:cNvPicPr/>
          <p:nvPr/>
        </p:nvPicPr>
        <p:blipFill>
          <a:blip r:embed=""/>
          <a:stretch/>
        </p:blipFill>
        <p:spPr>
          <a:xfrm>
            <a:off x="228600" y="6167520"/>
            <a:ext cx="457200" cy="69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82880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5238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Sigmund Freu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4724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gmund Freud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mund Freu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turns out the cancer is bad :(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173" name="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freud%20family" descr=""/>
          <p:cNvPicPr/>
          <p:nvPr/>
        </p:nvPicPr>
        <p:blipFill>
          <a:blip r:embed=""/>
          <a:stretch/>
        </p:blipFill>
        <p:spPr>
          <a:xfrm>
            <a:off x="914400" y="52578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77" name="ego" descr=""/>
          <p:cNvPicPr/>
          <p:nvPr/>
        </p:nvPicPr>
        <p:blipFill>
          <a:blip r:embed=""/>
          <a:stretch/>
        </p:blipFill>
        <p:spPr>
          <a:xfrm>
            <a:off x="2057400" y="5029200"/>
            <a:ext cx="781200" cy="1147680"/>
          </a:xfrm>
          <a:prstGeom prst="rect">
            <a:avLst/>
          </a:prstGeom>
          <a:ln w="0">
            <a:noFill/>
          </a:ln>
        </p:spPr>
      </p:pic>
      <p:pic>
        <p:nvPicPr>
          <p:cNvPr id="178" name="sigmund-freud-med" descr=""/>
          <p:cNvPicPr/>
          <p:nvPr/>
        </p:nvPicPr>
        <p:blipFill>
          <a:blip r:embed=""/>
          <a:stretch/>
        </p:blipFill>
        <p:spPr>
          <a:xfrm>
            <a:off x="3657600" y="5029200"/>
            <a:ext cx="1143000" cy="1155600"/>
          </a:xfrm>
          <a:prstGeom prst="rect">
            <a:avLst/>
          </a:prstGeom>
          <a:ln w="0">
            <a:noFill/>
          </a:ln>
        </p:spPr>
      </p:pic>
      <p:pic>
        <p:nvPicPr>
          <p:cNvPr id="179" name="sigmund-freud-med" descr=""/>
          <p:cNvPicPr/>
          <p:nvPr/>
        </p:nvPicPr>
        <p:blipFill>
          <a:blip r:embed=""/>
          <a:stretch/>
        </p:blipFill>
        <p:spPr>
          <a:xfrm>
            <a:off x="228600" y="457200"/>
            <a:ext cx="685800" cy="696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246320" y="1828800"/>
            <a:ext cx="1039680" cy="1147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743200" y="182880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4249800" y="1828800"/>
            <a:ext cx="1693800" cy="1305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400800" y="1828800"/>
            <a:ext cx="1298520" cy="1371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1143000" y="3200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2743200" y="3200400"/>
            <a:ext cx="1911240" cy="13906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4800600" y="3409920"/>
            <a:ext cx="1600200" cy="1162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 </cp:lastModifiedBy>
  <dcterms:modified xsi:type="dcterms:W3CDTF">2010-12-17T16:04:18Z</dcterms:modified>
  <cp:revision>20</cp:revision>
  <dc:subject/>
  <dc:title>Profile</dc:title>
</cp:coreProperties>
</file>